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199-B41A-4165-932A-67AD7082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8AD-7EE9-497B-ACC3-9A1A5D1A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8C0-EA94-4BD0-A4B0-DC1BC075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95A-4E5C-4F54-9121-0C11304B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983A-9F9C-4331-95B1-5A546F4F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0E37-7B22-431C-AC47-97876F3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AD0E-ED17-4011-8DBE-9FBB06CC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06F8-B9C6-4CE4-BCEA-D99B705F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B820-1E86-4B0B-90AE-56997FE8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A9E8-549F-41A8-9E7F-8718A2A1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7A02-990A-4945-B40D-488740D6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771-2754-4C17-8FA8-9EBF1180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F404-C273-4CCC-9651-A8F870AC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6410-25A1-46A8-B2FE-63EFFAC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5BAB-9FEC-4D21-95CE-E095A70E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E26D-FBD3-4A5F-807C-141E775A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733F-9EDB-4C7D-9866-CFA236B0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431-9C72-4964-A7E7-28ADBF1E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1EB-8DA2-4678-8257-35C36762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466-AC0D-48D7-9484-E9CCA88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AE9-386A-4430-8C35-0AF254DB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CB5-5D98-44C4-9C14-9923FCDA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2AC-5C77-427B-BBBB-C5B738E2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DC9-6F61-4F3D-AB70-56BECD2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aac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FF53-D3A5-4C8F-B8FC-AD5A89AEE1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8CE4-E500-4473-AAC1-BB33883704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9a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ac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2221"/>
                </a:solidFill>
                <a:latin typeface="Times New Roman"/>
              </a:rPr>
              <a:t>Aminosäuren/Proteine -                            Chemische Prozesse im menschlichen Körper</a:t>
            </a:r>
            <a:br>
              <a:rPr sz="2800"/>
            </a:br>
            <a:endParaRPr b="0" lang="en-US" sz="2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3504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Was sind Aminosäuren / Prote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Welche gibt 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Erster Schritt von der Aminosäure zum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Woher kommen sie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Auswirkungen bei natürlicher und  künstlicher (chemischer) Zufüh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Ist eine zusätzlich Zuführung von Aminosäuren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Impressum</a:t>
            </a:r>
            <a:endParaRPr b="0" lang="en-US" sz="4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661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stellt und vorgetragen v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arik Mey und Eric Re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48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as sind Aminosäuren / Proteine</a:t>
            </a:r>
            <a:br>
              <a:rPr sz="3600"/>
            </a:b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minosäur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minocarbonsäure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en aus Kohlenstoff-, Wasserstoff-, Stickstoff- und Sauerstoffat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che Verbindungen, die als funktionelle Gruppen sowohl eine Carboxyl- (</a:t>
            </a:r>
            <a:r>
              <a:rPr b="0" lang="de-DE" sz="1600" spc="-1" strike="noStrike">
                <a:solidFill>
                  <a:srgbClr val="009999"/>
                </a:solidFill>
                <a:latin typeface="Arial"/>
              </a:rPr>
              <a:t>-COO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als auch eine Aminogruppe (</a:t>
            </a:r>
            <a:r>
              <a:rPr b="0" lang="de-DE" sz="1600" spc="-1" strike="noStrike">
                <a:solidFill>
                  <a:srgbClr val="009999"/>
                </a:solidFill>
                <a:latin typeface="Arial"/>
              </a:rPr>
              <a:t>-NH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enthal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ste Bausteine der Prote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bt nur 20 verschiedene Aminosäuren, die in den Proteinen vorkommen (proteinogene Aminosäuren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teine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von griech.: proteuein = „der Erste sein“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en aus mehr als 100 Aminosäuren (Makromolekü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ser bekannt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weiß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gehören zu den Naturstoffen mit der größten chemischen Mannigfaltigke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kannt: über 2.000 Prote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chätzt: 50.000 verschiedene Prote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elche gibt es ?</a:t>
            </a:r>
            <a:br>
              <a:rPr sz="3600"/>
            </a:b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1990440" cy="603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Unsere Beispiel – Aminosä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26668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01665 L -0.025 0.09438 E">
                                      <p:cBhvr>
                                        <p:cTn id="8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391520" y="327672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N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924680" y="26668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153280" y="19810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29600" y="3581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42670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924680" y="26668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153280" y="19810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29600" y="3581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848720" y="42670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05320" y="3886200"/>
            <a:ext cx="21333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3657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nimation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419720" y="3124080"/>
            <a:ext cx="380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600200" y="21337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943600" y="22096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876920"/>
            <a:ext cx="2590920" cy="0"/>
          </a:xfrm>
          <a:prstGeom prst="line">
            <a:avLst/>
          </a:prstGeom>
          <a:ln w="136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52280" y="5562720"/>
            <a:ext cx="4724640" cy="1160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629400" y="5715000"/>
            <a:ext cx="380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52880" y="563868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15200" y="5638680"/>
            <a:ext cx="1523880" cy="71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981080" y="4191120"/>
            <a:ext cx="990720" cy="46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638680" y="4648320"/>
            <a:ext cx="266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Dipeptid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0"/>
            <a:ext cx="71582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66"/>
                </a:solidFill>
                <a:latin typeface="Times New Roman"/>
              </a:rPr>
              <a:t>Erster Schritt von der Aminosäure zum Protein</a:t>
            </a:r>
            <a:br>
              <a:rPr sz="2400"/>
            </a:br>
            <a:br>
              <a:rPr sz="1800"/>
            </a:br>
            <a:r>
              <a:rPr b="1" lang="de-DE" sz="2000" spc="-1" strike="noStrike">
                <a:solidFill>
                  <a:srgbClr val="006666"/>
                </a:solidFill>
                <a:latin typeface="Times New Roman"/>
              </a:rPr>
              <a:t>Vom Aminobaustein zum Dipeptid (Peptidbind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69 C -0.3099 0.17441 -0.61962 0.34837 -0.75486 0.43974 C -0.89011 0.53111 -0.80573 0.53134 -0.81164 0.54938 E">
                                      <p:cBhvr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8189E-008 C 0.00347 0.02198 0.15243 0.07009 0.02465 0.13162 C -0.1033 0.19315 -0.63125 0.34582 -0.76823 0.36873 C -0.90503 0.39163 -0.79167 0.29008 -0.79774 0.26949 E">
                                      <p:cBhvr>
                                        <p:cTn id="10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92 C -0.26771 0.11104 -0.53611 0.223 -0.64289 0.26718 E">
                                      <p:cBhvr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82373E-006 C -0.21354 0.10525 -0.42014 0.21559 -0.52031 0.24428 C -0.62049 0.27296 -0.58403 0.18761 -0.60087 0.1728 E">
                                      <p:cBhvr>
                                        <p:cTn id="10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07495E-006 C -0.24409 0.11936 -0.48767 0.23896 -0.58472 0.31645 C -0.68177 0.39394 -0.58125 0.43974 -0.58229 0.46542 E">
                                      <p:cBhvr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0874E-006 C -0.06077 0.12029 -0.29115 0.62665 -0.36424 0.71941 C -0.43733 0.81217 -0.42309 0.59056 -0.43872 0.55656 E">
                                      <p:cBhvr>
                                        <p:cTn id="1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08189E-008 C -0.05833 0.16262 -0.1092 0.32501 -0.18003 0.37312 C -0.25087 0.42124 -0.37396 0.30581 -0.425 0.28823 E">
                                      <p:cBhvr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2373E-006 C -0.02761 0.02799 -0.11528 0.13949 -0.16702 0.16771 C -0.21875 0.19593 -0.28073 0.1691 -0.31059 0.16933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93E-006 C 0.00452 0.05135 0.07396 0.22854 0.02709 0.3065 C -0.01979 0.38445 -0.21684 0.43373 -0.28107 0.46727 E">
                                      <p:cBhvr>
                                        <p:cTn id="12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49179E-006 C -0.07257 0.05967 -0.14497 0.11959 -0.17535 0.18181 C -0.20573 0.24404 -0.1941 0.30858 -0.18229 0.37311 E">
                                      <p:cBhvr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84178E-007 C 0.00747 0.06662 0.06146 0.33611 0.04479 0.3988 C 0.02813 0.46148 -0.06979 0.38098 -0.1 0.37636 E">
                                      <p:cBhvr>
                                        <p:cTn id="12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0874E-006 C 0.0033 0.05853 0.01632 0.25769 0.01909 0.35115 C 0.02187 0.4446 0.01701 0.51747 0.01649 0.56119 E">
                                      <p:cBhvr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19320" y="289548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330120"/>
          <a:ext cx="6324840" cy="6537240"/>
        </p:xfrm>
        <a:graphic>
          <a:graphicData uri="http://schemas.openxmlformats.org/drawingml/2006/table">
            <a:tbl>
              <a:tblPr/>
              <a:tblGrid>
                <a:gridCol w="1582920"/>
                <a:gridCol w="1579680"/>
                <a:gridCol w="1591920"/>
                <a:gridCol w="15703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Peptidbind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Anzahl Aminosäu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ezeichun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ezeichun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i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ligopept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Non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ec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Undec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lypept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Ei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neicosapepti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o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etr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Pent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Non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nhe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kropept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i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s über 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33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-2289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oher kommen sie ?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057400"/>
            <a:ext cx="8610480" cy="38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Aminosäuren werden im Körper produziert oder müssen in Form von Nahrung aufgenomm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Hierbei unterscheidet man zwisch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cht Essentiel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körpereigene Produ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sentiell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exogene Aufnah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i-essentiel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Aminosäuren, die der Körper unter bestimmten Umständen nicht selbst herstellt bei bspw. Krankheiten, Schwangerschaft, usw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6666"/>
                </a:solidFill>
                <a:latin typeface="Arial"/>
              </a:rPr>
              <a:t>Aminosäuren werden im gesamten Körper benötigt und haben daher eine Vielzahl von Aufgab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zur Bildung von Horm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 Insulinausschüt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Stoffwechselproze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rdern die Kollagenbildung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organischer Bestandteil von Knochen, Haut, Zähnen, Sehne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zur Regeneration von Orga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bei der Herstellung von Nervenbotenstoff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bspw. Seroton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5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66"/>
                </a:solidFill>
                <a:latin typeface="Times New Roman"/>
              </a:rPr>
              <a:t>Auswirkungen bei natürlicher und  künstlicher (chemischer) </a:t>
            </a:r>
            <a:br>
              <a:rPr sz="2100"/>
            </a:br>
            <a:r>
              <a:rPr b="1" lang="en-US" sz="2100" spc="-1" strike="noStrike">
                <a:solidFill>
                  <a:srgbClr val="006666"/>
                </a:solidFill>
                <a:latin typeface="Times New Roman"/>
              </a:rPr>
              <a:t>Zuführung </a:t>
            </a:r>
            <a:br>
              <a:rPr sz="2100"/>
            </a:br>
            <a:endParaRPr b="0" lang="en-US" sz="21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676520"/>
            <a:ext cx="9144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lycin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nt als Stickstoffliefer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Glutam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rstützt das Muskelwachstu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lan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ielt eine wichtige Rolle in den Stoffwechselprozes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wischen der Muskulatur und der Le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sparag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wird im Körper zu Ammoniak umgebaut und wirk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rntreibend. Es wird zum Abbau von Alkohol benötig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sparaginsäur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d für die Bildung des DNS-Moleküls benöti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lutaminsäure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ein wichtiger Transmitterstoff für die Kommunikation zwischen den einzelnen Gehirnzell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l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wichtig für Gelenke, Sehnen und eine normale Funktion und Regeneration des Herzmusk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rinmangel kann zu Abgeschlagenheit und Depression füh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Histid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ung des roten Blutfarbstoffes Hämoglobin, Schlüsselfunktion bei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lergischen und entzündlichen Erkrankun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Cyste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-Cystein ist unentbehrlich für die Haar- und Hautbildung, hilft bei der Entgiftung des Körpers vo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ermetallen. Ein Mangel kann den Eiweißaufbau und auch die Wundheilung beeinträchti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Isoleuc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bau/Erhalt von Muskelgeweb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Leuc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isetzung von Insulin in der Bauchspeicheldrü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Lys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ördert die Kollagenbildung in Blutgefäßen, Haut, Knochen und Zähn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Methio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lft bei der Regeneration von Leber- und Nierengewe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Phenylala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r Bildung von Proteinen und Hormo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hreo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ördert das Wachstum d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nochen und dient zur Bildung von Proteine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ryptopha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rstellung des Nervenbotenstoffes Serotonin beteiligt, welches den Schlaf- Wach-Rhythmus,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Stimmungslage, den Appetit und das Schmerzempfinden regulier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Val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kt der übermäßigen Serotoninbildung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ge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yros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wird für die Bildung d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ilddrüsenhormone benöti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rgi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kt gefäßerweiternd und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uliert somit den Blutflu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uszug von Wirkungen einzelner Aminosäuren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uf körpereigene Prozesse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077320" y="635004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</a:rPr>
              <a:t>Ist eine zusätzliche Zuführung von Aminosäuren sinnvoll?</a:t>
            </a:r>
            <a:endParaRPr b="0" lang="en-US" sz="23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Normalf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keinen Mangel an Aminosä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örper stellt alle ihm im Umfang benötigten Aminosäuren selbst her und nimmt die gering benötigten essentiellen Aminosäuren durch Nahrung au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usnahmef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Mangel an Aminosäuren kann ent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Krankheitsfällen oder noch nicht ausgereifter körperlicher Entwicklung werden bestimmte Aminosäuren einfach nicht gebild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ßergewöhnlicher körperlicher Belastung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z.B. Schwangerschaft, Stillzeit, Leistungs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CYou</cp:lastModifiedBy>
  <dcterms:modified xsi:type="dcterms:W3CDTF">2007-11-25T22:29:37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